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EF9C-2FD8-47F5-92A0-D5C5292AA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FE01-9A35-4456-B452-EAFDB1AED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B80265-2D49-469D-A4ED-C7D86DAA9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0DAD01-FDAE-4EC8-B39F-49713EACD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E8A529-30E8-45E2-A34D-CD68C4913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18E933-954D-4243-BF69-87E3ED95D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E00E63-CD69-4CCC-A8BF-830C85631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8197A7-644A-436F-A227-FE94C4E1D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DE3544-BCEC-428A-88E6-0B2274309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374911-F62D-4158-A7B9-B15701AFF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556525-12D7-40BA-810B-706180166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F0E89D-883C-463E-9016-A2BD09642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FF9B-1E4F-4EE4-BDAB-8270775F5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C7A67E-DA4B-4D26-87EA-C3869C5F5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181144-B291-4D0E-8CCC-82A548F2E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5E4AC6-657A-495C-A6EB-519475855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921FC1-1ED0-4A56-A795-4326C0EC8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936A68-C7AE-4D0E-A28D-2A6339A7F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C00114-E5DA-48A1-B924-C9A2B3A24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2425F2-A729-429A-8B42-3F31ED36F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A9BF06-6592-475E-B723-7372B58CC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CFAAC0-1FB2-47BE-A953-DB00AA3C0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77D08B-4AD1-4337-B412-2CB1369CA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FE6E-0F70-4AF2-B35D-3F65543AB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913128-57AB-4FCE-8628-1E6BD9620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D66001-FE4D-489E-B984-E04CC9777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C24B3C-6B59-480A-BCE9-87F96609C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BBEB0C-4F57-4CA2-9284-5E4DB8F58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AF996C-1BB3-4ADA-9366-93E65A36D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540829-D4D0-480A-9BB5-FB78ABD4C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CAE8A6-C817-45FF-A53C-9BE497EEB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8D25BD-2BAD-4229-9B20-859CBF7C0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B6DFFC-E91D-47FB-BC3D-05ECAB005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8EF392-9BFF-4C0D-9DE3-221333959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A3E71-DD0C-481F-BF98-0E557349B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25E5AE-1A79-459C-B201-E1FEC9C1C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7AF6A6-827F-4F7E-A742-B1A052ADF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1E2089-60F8-41A9-8013-D564CB380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6097CF-69A5-4945-9AAB-9FCD41E9C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72EE15-B9FC-4A77-AC46-25675D486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326804-2CAD-4492-83AD-37A8084FB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1A1C0A-29A7-4D70-A4F2-9EF381249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D8868F-C21F-460E-A15A-1296893B0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FE8B11-7E56-4584-9D29-2DC8A8C05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418CC6-0B6A-4435-9B1C-EB556B5EA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D1EF5-3305-49A9-8B7B-9F1EA795B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2A3D4E-A41B-48DE-BEA8-3C7781000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0C3AE4-05C6-4BA1-AC3A-999999B79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3BCCF8-E988-4984-84CD-A2484A882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1A6658-DC7C-4D69-8262-321CD685B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FCF548-CD66-4F62-B9E5-1A1298EE1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F3032-AA0C-4ADD-80E4-F0E104B25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BC489-6928-46A9-9E87-606D55851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54A1F-7A05-46FE-875E-9148444EC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03727-728F-468B-98BA-2E1C719FF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8DF46-34A2-43A9-A941-3242F120A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DE5B-111D-442F-80DF-90CE1675E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E2522-BF92-4D59-9B1C-657E7E48F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0BA69-79B8-43F7-AFA2-19DFB3CF9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286FB-E649-4BCE-B0D9-3481ED455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E4D08-C198-4F6C-AD7D-4287E088B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D5ABC-43F7-4370-9736-AEB1D59C2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EA4596-5BBD-45C4-AFBE-A422B7300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8A26C3-6B5F-4A68-B35D-593FB1DF2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9CDA8F-946D-43D4-AEAB-34F97678D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8317C5-CB42-48BD-B369-D01F3E236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4505B0-FB60-4560-86D6-4B695ECE4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3810-4E3B-4E1A-8156-B9B7CAE98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10193B-B99D-47DD-86B4-7787E33D7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1CB206-34D5-4920-98A0-F0CD167CA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7A632B-5E29-4F8B-9A37-6C05A3F39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346869-9445-4065-BEFC-B6B926E0B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B14232-71C6-48E4-AAE4-BED6977C2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7B04C5-F870-4C61-8765-623E38D6A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6C783A-374E-42BF-8FAE-B730DA9C6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A909D7-515A-48EB-ABA6-5E3BBD7E1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05BCDA-2837-4041-B249-16501A9E9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0C9139-D1AF-45B9-BE4E-B43A5023E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E333-4582-4430-A2DC-60FC286A3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FE91D2-EBD5-4748-AFC8-FE6D1DB29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C7C641-C452-4DDE-9BFE-CFAF267C3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AA0EC2-DB4A-4A63-B0AD-24B3E1654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A13E17-9EA9-4F5F-B18C-395074CCF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758019-728D-4297-8456-22FA1493A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9E209D-9A8E-43E6-BEAA-001EB44E5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3C68AF-FF6F-42AD-82EC-7F64EBD1A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745BDF-68FC-4C0A-953E-7C973DC9E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6B4BDD-0CBC-4F79-AC7E-AA3FD1314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D34D57-1238-4022-8CE3-4E13F4BA0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1788-83F1-4BE2-8010-59493D384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1E6F15-47C8-455A-89AA-932AF62B3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24F0B5-D091-4CD6-86FB-769E7A992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536B0D-0863-425B-A2AA-CB4002956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06A0B6-7273-47B6-BDD3-911FC0FFC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00637D-1990-4662-8FFB-ED932AD12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EAD4A3-2AA3-4E6B-8A4A-FC7A740E4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C67A23-37B2-4439-96CD-64B3D6198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A61450-37DB-4612-8DE6-F63C4ED32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620BD6-B64C-463E-A1A4-EA12D2781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282037-1521-408C-8CF9-BE7A03688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15C8-22E9-4CFF-8592-1B74E8AC0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5AE2F6-3B92-4071-9A56-5EDF89414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0640FF-4BE2-4042-B420-9F801DD6F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1632A8-05F1-4A1D-92F3-D4DD23438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E03C22-1293-477D-9674-44E8C0DCC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F4057E-21D8-424D-AA69-3846B5C07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823D4D-B8BE-49F7-8528-4EB74CB11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23B44A-4C1B-4E23-B0E0-B09B371A2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8C27CA-51D1-4651-BE11-EDC5A2269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C53D66-6ACE-4F86-A3F3-5678C9132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8554BA-E4DC-441D-B3E0-CADC82338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6A23-9917-449C-BD36-155D3F591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118149-D56D-4110-8B8E-AD0FE2673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25E823-7D2D-4091-AA42-53619F348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C29064-195C-46A0-8F9A-11657EBA8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EF6153-E96D-4C71-9281-8BBBBB7D4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D94C58-91F9-4CDB-ABC7-24B05EBFA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7EC99F-1F54-448A-9791-4E751EBE2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8FA674-558B-4C29-AC6C-A93204FCD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754427-9799-47ED-9C38-BEEDE3CF4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8D8102-66AD-496F-92FF-483575BFD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1CE4DD-F84E-44B3-B114-D3E390BB6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7D15-E89A-487D-8E87-D1A8E0C87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D69B5A-358B-4A74-B68C-2D88644A5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047849-B9B6-402E-9EA4-A6DC2A49C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D3B8E7-0AA6-4EAC-B017-A4D3B705A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12E3E0-BDF8-4E9F-9A3F-28AAFCC7D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2702FC-B895-47ED-A366-D679A5559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E8B295-9D68-472B-BFA6-AE8987192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9C4BAE-3386-49E7-9610-DB4F04A45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EE9501-7D7F-4304-9B09-2104C1DBF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D6CA0C-2E5A-4525-9235-600B7A64F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F3A913-8CF5-4376-B472-AAF675B9D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1B16-D1E0-48E1-9EF9-A3D43ED80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D4178F-3D4C-4DF4-AC2F-5FBE3DE97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8456CE-FD63-4720-8027-34CAEE62D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A248C3-E33A-4648-AB59-8925618F2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46ECAC-859C-491C-8EA2-C53133335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2060B1-AC44-4E45-8257-E04EFC365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F2A401-DEA0-4107-8F98-BAFCA8F11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D923F6-C656-42C0-BB2E-7EDF3170F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E97545-D349-49FA-B336-93768895E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040E74-59DD-498D-B0DB-FB099EECE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E7DD98-8923-48D6-B99D-442CD055F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C7862-FC1C-4D33-B617-0A55FF55F6D4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17F90-DF9E-4555-84F2-323D9205E943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410E7-F2EA-4045-9B48-A6B771EDE4BC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D0FD0-0012-44EB-89E8-3A1931522F8C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5CACE-7DFC-4571-BD36-89F08ED12787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10961-AB69-4954-93C8-1371B36209C7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75F2D-141B-47B1-80A3-0F6FBB51B89D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19C63-B05D-4CCA-8BB9-669ADEE819E7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E3442-2F9E-4337-A4C5-E0D26D62C53D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6F528-B622-4A95-A714-FE197886244D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FDAD3-5B9D-4A61-9309-2244A86EBBC5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B11A9-814D-4CED-8C14-3BD4304ADDE1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294 V práci aj pri odpo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inku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V práci aj pri odpočinku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Pán je mojou piesňou sá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odvtedy, čo jeho lásku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každodenne poznáva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Nedesí ma starosť, tieseň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Darcu spásy velebím;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nech znie vrúcnej vďak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y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piese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ň: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Sláva Bohu na nebi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S úctou anjeli ho chváli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všetkej chvály hoden j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na zemi ho vďačne slávia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láskou srdcia zmierené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Nedesí ma starosť, tieseň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Darcu spásy velebím;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nech znie vrúcnej vďak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y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piese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ň: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Sláva Bohu na nebi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Božiu milosť velebiť smie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už tu, v hriešnej časnosti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Kráľa slávy s anjelmi chce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chváli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ť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 aj vo ve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nosti.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Nedesí ma starosť, tieseň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Darcu spásy velebím;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nech znie vrúcnej vďak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y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piese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ň: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Sláva Bohu na nebi!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9-04T13:22:51Z</dcterms:modified>
  <cp:revision>23</cp:revision>
  <dc:subject/>
  <dc:title>Je veľký náš Pán, on slávy je Kráľ Nech do všetkých strán  spev vrúcnych znie chvál.</dc:title>
</cp:coreProperties>
</file>